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902D-0008-4B9F-9D62-49D38E8D0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5886-4751-4A56-AA4E-52434124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470B-4C12-4CA5-9A1C-36BDF3C0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751A-726A-4B51-B6E6-A172C721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81E3-7B6D-4134-8420-012FCA5DC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4465-C8A6-49F0-8C3C-C977953E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471B-89FE-49FA-BA41-DFA4B877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6B36-AFD8-4574-94AF-BF68238E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72DA-C0BE-405C-B34F-0FB649F0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EF53-F499-47DA-AE21-8A4AB5C9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14A2-E49A-4937-8DBF-94B2EFA5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FC5D-F3C8-46B3-8695-D51695FC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B53D-691F-4815-9D1A-C770A20E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C079-8A39-4B7F-ACEB-A10BFBA9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42B8-0DCC-401B-97F0-537F913D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5F6D-B800-4D52-8B40-A35258350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12E6-1B68-4D9A-85A3-1D202D0B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6046C-93F7-4B0E-80CE-C0E5B59B6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8002B-A80C-4E28-AAEB-CE8AE84F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515ED-445A-417B-BBB3-12614656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58783-02A4-4047-A981-D4074123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5BB84-BB56-456C-9EE2-98DFAAA3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7BE8-C203-4D48-82AC-3EF09F2E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0B6F8-A594-4CE2-B472-17FB78C2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B3E18-6EBA-46E5-99B2-B4D8B698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164F0-B19A-4255-985F-838427BF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FE8B8-71B7-4FB2-8493-09198B24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6B576-4BDC-4AB3-93B5-72B196CF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70F0B-B16C-4689-88AE-A0B04C57A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F37DD-317B-42AB-A4C9-22A9BA3E6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013D8-CA00-4593-8DA3-01FDA3FB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CE8C9-37A8-4B8C-97AF-4DFBB826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8F04D-E550-4315-82B2-C482E6F2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5C8F-5601-47B5-85D3-825E0A48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632F5-EFDD-47FE-8E8C-69DB33A1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C7C8B-73BB-481E-A7AA-51E0739A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CD15C-1BC2-4499-A2F9-3C7B3553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56AE5-1EA8-4DBF-9DA7-CAA774D9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558DB-507B-41C0-81F9-DC33AD58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A9D35-9F2C-4404-B955-BE41AF0C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A464C-566D-4045-99AA-49105D9E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8E20A-8383-47EE-B82C-93210D424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F4535-9319-4243-90E2-2A60F2B0C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7AA99-2376-43A7-BAE2-81A83CAE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5025-424C-40B4-8805-85594707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017C6-0F14-4889-A27C-D8E70EFF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E3C17-F764-4506-9920-81772645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1BAEF-4C1F-4849-8129-7ABC1125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13CB1-D40D-471A-9A19-7F3ABBF4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5821C-92D6-4626-8DE3-91CC5B4D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87552-B309-4353-A23C-8EC2AC28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F3290-1E76-4DC0-BD02-6A59BD96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D4C25-3690-4CAE-B45F-F2535C13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D2B58-CF19-4466-BE06-17DDD9B3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69399-A04E-4AA6-A858-25593C96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2700-DF7B-4C44-9023-68E06F5C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55206-3020-4C4F-B0AB-2CC99FB24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E134-0032-420B-AC6F-4B32FF79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E6AF-9FE1-4764-853A-6D1120C0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A24E-83EA-4CD4-8B22-2D727442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4FD4-1CE1-4DBC-B9F4-138CDE35A4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7378-FF1D-44B3-ADBB-AEAA9DC441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3964-3FB3-4773-A10E-57940C8975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2181-C1B5-4EB9-AF22-82BF88AA56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19E3-49EE-4877-AE1B-C5942C41EA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condensation+on+a+glass&amp;source=images&amp;cd=&amp;cad=rja&amp;docid=yJ5k6q3ow2XD-M&amp;tbnid=hsbntimOf4w2cM:&amp;ved=0CAUQjRw&amp;url=http%3A%2F%2Fwww.scottslumber.com%2Fservices%2Fwindow-condensation-are-my-windows-defective%2F&amp;ei=w32rUY-_EcfH0QHPmoHQBQ&amp;bvm=bv.47244034,d.dmg&amp;psig=AFQjCNFgD-8pVEb0L9lFV5IfGKCA1wZUnA&amp;ust=1370279667723115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google.com/url?sa=i&amp;rct=j&amp;q=condensation+on+a+glass&amp;source=images&amp;cd=&amp;cad=rja&amp;docid=yAqIA64FOTrWNM&amp;tbnid=-j_VUuUZn2dUEM:&amp;ved=0CAUQjRw&amp;url=http%3A%2F%2Fwww.nc-climate.ncsu.edu%2Fedu%2Fk12%2FWhyCloudsForm%2Fbody&amp;ei=cn6rUcntB6nj0QGNroGADg&amp;bvm=bv.47244034,d.dmg&amp;psig=AFQjCNFgD-8pVEb0L9lFV5IfGKCA1wZUnA&amp;ust=1370279667723115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d2533c"/>
                </a:solidFill>
                <a:latin typeface="BrowalliaUPC"/>
                <a:ea typeface="BrowalliaUPC"/>
              </a:rPr>
              <a:t>CHAPTER 17</a:t>
            </a:r>
            <a:endParaRPr b="0" lang="en-US" sz="7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576e"/>
                </a:solidFill>
                <a:latin typeface="BrowalliaUPC"/>
                <a:ea typeface="BrowalliaUPC"/>
              </a:rPr>
              <a:t>THERMOCHEMISTRY</a:t>
            </a:r>
            <a:endParaRPr b="0" lang="en-US" sz="4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BrowalliaUPC"/>
                <a:ea typeface="BrowalliaUPC"/>
              </a:rPr>
              <a:t>EXAMPLE PROBLEM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The following acid-base reaction is performed in a coffee cup calorimeter: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H</a:t>
            </a:r>
            <a:r>
              <a:rPr b="0" lang="en-US" sz="2400" spc="-1" strike="noStrike" baseline="30000">
                <a:solidFill>
                  <a:srgbClr val="292934"/>
                </a:solidFill>
                <a:latin typeface="BrowalliaUPC"/>
                <a:ea typeface="BrowalliaUPC"/>
              </a:rPr>
              <a:t>+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(aq) + OH</a:t>
            </a:r>
            <a:r>
              <a:rPr b="0" lang="en-US" sz="2400" spc="-1" strike="noStrike" baseline="30000">
                <a:solidFill>
                  <a:srgbClr val="292934"/>
                </a:solidFill>
                <a:latin typeface="BrowalliaUPC"/>
                <a:ea typeface="BrowalliaUPC"/>
              </a:rPr>
              <a:t>-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(aq) --&gt; H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2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O(l)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55mL of water containing 0.1mol of HCl and 55mL of water containing 0.1mol of NaOH are combined in a calorimeter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The temperature of the water rises from 25.0°C to 26.2°C when 0.10 mol  of each substance react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34160" indent="-1731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Calculate q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water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34160" indent="-1731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Calculate </a:t>
            </a:r>
            <a:r>
              <a:rPr b="0" lang="el-GR" sz="2400" spc="-1" strike="noStrike">
                <a:solidFill>
                  <a:srgbClr val="292934"/>
                </a:solidFill>
                <a:latin typeface="Arial"/>
                <a:ea typeface="BrowalliaUPC"/>
              </a:rPr>
              <a:t>Δ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H for the reaction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34160" indent="-1731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Calculate </a:t>
            </a:r>
            <a:r>
              <a:rPr b="0" lang="el-GR" sz="2400" spc="-1" strike="noStrike">
                <a:solidFill>
                  <a:srgbClr val="292934"/>
                </a:solidFill>
                <a:latin typeface="Arial"/>
                <a:ea typeface="BrowalliaUPC"/>
              </a:rPr>
              <a:t>Δ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H if 1.00 mol OH- reacts with 1.00 mol H+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BrowalliaUPC"/>
                <a:ea typeface="BrowalliaUPC"/>
              </a:rPr>
              <a:t>SOLUTION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67" name="Rectangle 3" descr=""/>
          <p:cNvPicPr/>
          <p:nvPr/>
        </p:nvPicPr>
        <p:blipFill>
          <a:blip r:embed="rId1"/>
          <a:stretch/>
        </p:blipFill>
        <p:spPr>
          <a:xfrm>
            <a:off x="407880" y="1554120"/>
            <a:ext cx="8583840" cy="4578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4"/>
          <p:cNvSpPr/>
          <p:nvPr/>
        </p:nvSpPr>
        <p:spPr>
          <a:xfrm>
            <a:off x="4300560" y="3727440"/>
            <a:ext cx="798480" cy="369720"/>
          </a:xfrm>
          <a:prstGeom prst="rect">
            <a:avLst/>
          </a:prstGeom>
          <a:solidFill>
            <a:srgbClr val="d4dad6"/>
          </a:solidFill>
          <a:ln w="26280">
            <a:solidFill>
              <a:srgbClr val="d4da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6095880" y="2865600"/>
            <a:ext cx="970200" cy="369720"/>
          </a:xfrm>
          <a:prstGeom prst="rect">
            <a:avLst/>
          </a:prstGeom>
          <a:solidFill>
            <a:srgbClr val="d4dad6"/>
          </a:solidFill>
          <a:ln w="26280">
            <a:solidFill>
              <a:srgbClr val="d4da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BrowalliaUPC"/>
                <a:ea typeface="BrowalliaUPC"/>
              </a:rPr>
              <a:t>THERMOCHEMICAL EQUATION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77720" y="1599840"/>
            <a:ext cx="8437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A chemical equation that includes the amount of heat produced or absorbed during the reaction is the </a:t>
            </a:r>
            <a:r>
              <a:rPr b="1" lang="en-US" sz="2400" spc="-1" strike="noStrike" u="sng">
                <a:solidFill>
                  <a:srgbClr val="a53926"/>
                </a:solidFill>
                <a:uFillTx/>
                <a:latin typeface="BrowalliaUPC"/>
                <a:ea typeface="BrowalliaUPC"/>
              </a:rPr>
              <a:t>thermochemical equation</a:t>
            </a:r>
            <a:r>
              <a:rPr b="1" lang="en-US" sz="2400" spc="-1" strike="noStrike">
                <a:solidFill>
                  <a:srgbClr val="a53926"/>
                </a:solidFill>
                <a:latin typeface="BrowalliaUPC"/>
                <a:ea typeface="BrowalliaUPC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BrowalliaUPC"/>
                <a:ea typeface="BrowalliaUPC"/>
              </a:rPr>
              <a:t>Exothermic Reaction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The </a:t>
            </a:r>
            <a:r>
              <a:rPr b="1" lang="en-US" sz="2400" spc="-1" strike="noStrike" u="sng">
                <a:solidFill>
                  <a:srgbClr val="a53926"/>
                </a:solidFill>
                <a:uFillTx/>
                <a:latin typeface="BrowalliaUPC"/>
                <a:ea typeface="BrowalliaUPC"/>
              </a:rPr>
              <a:t>heat of reaction</a:t>
            </a:r>
            <a:r>
              <a:rPr b="1" lang="en-US" sz="2400" spc="-1" strike="noStrike">
                <a:solidFill>
                  <a:srgbClr val="a53926"/>
                </a:solidFill>
                <a:latin typeface="BrowalliaUPC"/>
                <a:ea typeface="BrowalliaUPC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explains the heat released or absorbed during a chemical reaction (the change in enthalpy, 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△H)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rcRect l="0" t="60515" r="2235" b="8695"/>
          <a:stretch/>
        </p:blipFill>
        <p:spPr>
          <a:xfrm>
            <a:off x="1136520" y="5345280"/>
            <a:ext cx="6542280" cy="807840"/>
          </a:xfrm>
          <a:prstGeom prst="rect">
            <a:avLst/>
          </a:prstGeom>
          <a:ln w="0">
            <a:noFill/>
          </a:ln>
        </p:spPr>
      </p:pic>
      <p:grpSp>
        <p:nvGrpSpPr>
          <p:cNvPr id="273" name="Group 2"/>
          <p:cNvGrpSpPr/>
          <p:nvPr/>
        </p:nvGrpSpPr>
        <p:grpSpPr>
          <a:xfrm>
            <a:off x="2233440" y="2646360"/>
            <a:ext cx="4824720" cy="808200"/>
            <a:chOff x="2233440" y="2646360"/>
            <a:chExt cx="4824720" cy="808200"/>
          </a:xfrm>
        </p:grpSpPr>
        <p:pic>
          <p:nvPicPr>
            <p:cNvPr id="274" name="Picture 4" descr=""/>
            <p:cNvPicPr/>
            <p:nvPr/>
          </p:nvPicPr>
          <p:blipFill>
            <a:blip r:embed="rId2"/>
            <a:srcRect l="0" t="60515" r="44635" b="8695"/>
            <a:stretch/>
          </p:blipFill>
          <p:spPr>
            <a:xfrm>
              <a:off x="2233440" y="2646360"/>
              <a:ext cx="3705840" cy="8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Box 1"/>
            <p:cNvSpPr/>
            <p:nvPr/>
          </p:nvSpPr>
          <p:spPr>
            <a:xfrm>
              <a:off x="5856480" y="2865600"/>
              <a:ext cx="120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6541e"/>
                  </a:solidFill>
                  <a:latin typeface="Arial"/>
                  <a:ea typeface="Arial"/>
                </a:rPr>
                <a:t>+ 2220 kJ</a:t>
              </a:r>
              <a:endParaRPr b="1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276" name="TextBox 3"/>
          <p:cNvSpPr/>
          <p:nvPr/>
        </p:nvSpPr>
        <p:spPr>
          <a:xfrm>
            <a:off x="436680" y="3686040"/>
            <a:ext cx="86011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BrowalliaUPC"/>
                <a:ea typeface="BrowalliaUPC"/>
              </a:rPr>
              <a:t>Endothermic Reaction    </a:t>
            </a:r>
            <a:r>
              <a:rPr b="1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NH</a:t>
            </a:r>
            <a:r>
              <a:rPr b="1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4</a:t>
            </a:r>
            <a:r>
              <a:rPr b="1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NO</a:t>
            </a:r>
            <a:r>
              <a:rPr b="1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3</a:t>
            </a:r>
            <a:r>
              <a:rPr b="1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(s) + H</a:t>
            </a:r>
            <a:r>
              <a:rPr b="1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2</a:t>
            </a:r>
            <a:r>
              <a:rPr b="1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O(l) +  </a:t>
            </a:r>
            <a:r>
              <a:rPr b="1" lang="en-US" sz="1800" spc="-1" strike="noStrike">
                <a:solidFill>
                  <a:srgbClr val="292934"/>
                </a:solidFill>
                <a:latin typeface="Arial"/>
              </a:rPr>
              <a:t>26.2KJ </a:t>
            </a:r>
            <a:r>
              <a:rPr b="1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 --&gt; NH</a:t>
            </a:r>
            <a:r>
              <a:rPr b="1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4</a:t>
            </a:r>
            <a:r>
              <a:rPr b="1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OH(aq) + HNO</a:t>
            </a:r>
            <a:r>
              <a:rPr b="1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3</a:t>
            </a:r>
            <a:r>
              <a:rPr b="1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(aq</a:t>
            </a:r>
            <a:r>
              <a:rPr b="1" lang="en-US" sz="1800" spc="-1" strike="noStrike">
                <a:solidFill>
                  <a:srgbClr val="292934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77" name="TextBox 7" descr=""/>
          <p:cNvPicPr/>
          <p:nvPr/>
        </p:nvPicPr>
        <p:blipFill>
          <a:blip r:embed="rId3"/>
          <a:stretch/>
        </p:blipFill>
        <p:spPr>
          <a:xfrm>
            <a:off x="1036800" y="6072120"/>
            <a:ext cx="7759440" cy="69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BrowalliaUPC"/>
                <a:ea typeface="BrowalliaUPC"/>
              </a:rPr>
              <a:t>THERMOCHEMICAL EQUATION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1599840"/>
            <a:ext cx="922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147600" indent="-147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The heat of reaction for the complete burning of one mole of a substance</a:t>
            </a:r>
            <a:r>
              <a:rPr b="1" lang="en-US" sz="2400" spc="-1" strike="noStrike" u="sng">
                <a:solidFill>
                  <a:srgbClr val="a53926"/>
                </a:solidFill>
                <a:uFillTx/>
                <a:latin typeface="BrowalliaUPC"/>
                <a:ea typeface="BrowalliaUPC"/>
              </a:rPr>
              <a:t> heat of combust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47600" indent="-147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47600" indent="-147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The heat absorbed by one mole of a substance while melting </a:t>
            </a:r>
            <a:r>
              <a:rPr b="1" lang="en-US" sz="2400" spc="-1" strike="noStrike" u="sng">
                <a:solidFill>
                  <a:srgbClr val="a53926"/>
                </a:solidFill>
                <a:uFillTx/>
                <a:latin typeface="BrowalliaUPC"/>
                <a:ea typeface="BrowalliaUPC"/>
              </a:rPr>
              <a:t>molar heat of fusion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 (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△H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MS Mincho"/>
              </a:rPr>
              <a:t>fus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47600" indent="-147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47600" indent="-14760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The heat lost when one mole of a substance freezes </a:t>
            </a:r>
            <a:r>
              <a:rPr b="1" lang="en-US" sz="2400" spc="-1" strike="noStrike" u="sng">
                <a:solidFill>
                  <a:srgbClr val="a53926"/>
                </a:solidFill>
                <a:uFillTx/>
                <a:latin typeface="BrowalliaUPC"/>
                <a:ea typeface="MS Mincho"/>
              </a:rPr>
              <a:t>molar heat of solidification</a:t>
            </a:r>
            <a:r>
              <a:rPr b="1" lang="en-US" sz="2400" spc="-1" strike="noStrike">
                <a:solidFill>
                  <a:srgbClr val="a53926"/>
                </a:solidFill>
                <a:latin typeface="BrowalliaUPC"/>
                <a:ea typeface="MS Mincho"/>
              </a:rPr>
              <a:t> </a:t>
            </a:r>
            <a:r>
              <a:rPr b="0" lang="en-US" sz="2800" spc="-1" strike="noStrike">
                <a:solidFill>
                  <a:srgbClr val="292934"/>
                </a:solidFill>
                <a:latin typeface="BrowalliaUPC"/>
                <a:ea typeface="MS Mincho"/>
              </a:rPr>
              <a:t>(△H</a:t>
            </a:r>
            <a:r>
              <a:rPr b="0" lang="en-US" sz="2800" spc="-1" strike="noStrike" baseline="-25000">
                <a:solidFill>
                  <a:srgbClr val="292934"/>
                </a:solidFill>
                <a:latin typeface="BrowalliaUPC"/>
                <a:ea typeface="MS Mincho"/>
              </a:rPr>
              <a:t>solid</a:t>
            </a:r>
            <a:r>
              <a:rPr b="0" lang="en-US" sz="2800" spc="-1" strike="noStrike">
                <a:solidFill>
                  <a:srgbClr val="292934"/>
                </a:solidFill>
                <a:latin typeface="BrowalliaUPC"/>
                <a:ea typeface="MS Mincho"/>
              </a:rPr>
              <a:t>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47600" indent="-147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47600" indent="-14760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The heat absorbed when one mole of a substances vaporizes </a:t>
            </a:r>
            <a:r>
              <a:rPr b="1" lang="en-US" sz="2400" spc="-1" strike="noStrike" u="sng">
                <a:solidFill>
                  <a:srgbClr val="a53926"/>
                </a:solidFill>
                <a:uFillTx/>
                <a:latin typeface="BrowalliaUPC"/>
                <a:ea typeface="MS Mincho"/>
              </a:rPr>
              <a:t>molar heat of vaporization </a:t>
            </a:r>
            <a:r>
              <a:rPr b="0" lang="en-US" sz="2000" spc="-1" strike="noStrike">
                <a:solidFill>
                  <a:srgbClr val="292934"/>
                </a:solidFill>
                <a:latin typeface="BrowalliaUPC"/>
                <a:ea typeface="MS Mincho"/>
              </a:rPr>
              <a:t>(△H</a:t>
            </a:r>
            <a:r>
              <a:rPr b="0" lang="en-US" sz="2000" spc="-1" strike="noStrike" baseline="-25000">
                <a:solidFill>
                  <a:srgbClr val="292934"/>
                </a:solidFill>
                <a:latin typeface="BrowalliaUPC"/>
                <a:ea typeface="MS Mincho"/>
              </a:rPr>
              <a:t>vap</a:t>
            </a:r>
            <a:r>
              <a:rPr b="0" lang="en-US" sz="2000" spc="-1" strike="noStrike">
                <a:solidFill>
                  <a:srgbClr val="292934"/>
                </a:solidFill>
                <a:latin typeface="BrowalliaUPC"/>
                <a:ea typeface="MS Mincho"/>
              </a:rPr>
              <a:t>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47600" indent="-147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47600" indent="-14760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The heat absorbed when one mole of a substances condenses </a:t>
            </a:r>
            <a:r>
              <a:rPr b="1" lang="en-US" sz="2400" spc="-1" strike="noStrike" u="sng">
                <a:solidFill>
                  <a:srgbClr val="a53926"/>
                </a:solidFill>
                <a:uFillTx/>
                <a:latin typeface="BrowalliaUPC"/>
                <a:ea typeface="MS Mincho"/>
              </a:rPr>
              <a:t>molar heat of condensation </a:t>
            </a:r>
            <a:r>
              <a:rPr b="0" lang="en-US" sz="2000" spc="-1" strike="noStrike">
                <a:solidFill>
                  <a:srgbClr val="292934"/>
                </a:solidFill>
                <a:latin typeface="BrowalliaUPC"/>
                <a:ea typeface="MS Mincho"/>
              </a:rPr>
              <a:t>(△H</a:t>
            </a:r>
            <a:r>
              <a:rPr b="0" lang="en-US" sz="2000" spc="-1" strike="noStrike" baseline="-25000">
                <a:solidFill>
                  <a:srgbClr val="292934"/>
                </a:solidFill>
                <a:latin typeface="BrowalliaUPC"/>
                <a:ea typeface="MS Mincho"/>
              </a:rPr>
              <a:t>cond</a:t>
            </a:r>
            <a:r>
              <a:rPr b="0" lang="en-US" sz="2000" spc="-1" strike="noStrike">
                <a:solidFill>
                  <a:srgbClr val="292934"/>
                </a:solidFill>
                <a:latin typeface="BrowalliaUPC"/>
                <a:ea typeface="MS Mincho"/>
              </a:rPr>
              <a:t>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47600" indent="-14760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47600" indent="-14760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The heat change caused by dissolution of one mole of a substance </a:t>
            </a:r>
            <a:r>
              <a:rPr b="1" lang="en-US" sz="2400" spc="-1" strike="noStrike" u="sng">
                <a:solidFill>
                  <a:srgbClr val="a53926"/>
                </a:solidFill>
                <a:uFillTx/>
                <a:latin typeface="BrowalliaUPC"/>
                <a:ea typeface="MS Mincho"/>
              </a:rPr>
              <a:t>molar heat of solution</a:t>
            </a:r>
            <a:r>
              <a:rPr b="1" lang="en-US" sz="2400" spc="-1" strike="noStrike">
                <a:solidFill>
                  <a:srgbClr val="a53926"/>
                </a:solidFill>
                <a:latin typeface="BrowalliaUPC"/>
                <a:ea typeface="MS Mincho"/>
              </a:rPr>
              <a:t> </a:t>
            </a:r>
            <a:r>
              <a:rPr b="0" lang="en-US" sz="2000" spc="-1" strike="noStrike">
                <a:solidFill>
                  <a:srgbClr val="292934"/>
                </a:solidFill>
                <a:latin typeface="BrowalliaUPC"/>
                <a:ea typeface="MS Mincho"/>
              </a:rPr>
              <a:t>(△H</a:t>
            </a:r>
            <a:r>
              <a:rPr b="0" lang="en-US" sz="2000" spc="-1" strike="noStrike" baseline="-25000">
                <a:solidFill>
                  <a:srgbClr val="292934"/>
                </a:solidFill>
                <a:latin typeface="BrowalliaUPC"/>
                <a:ea typeface="MS Mincho"/>
              </a:rPr>
              <a:t>soln</a:t>
            </a:r>
            <a:r>
              <a:rPr b="0" lang="en-US" sz="2000" spc="-1" strike="noStrike">
                <a:solidFill>
                  <a:srgbClr val="292934"/>
                </a:solidFill>
                <a:latin typeface="BrowalliaUPC"/>
                <a:ea typeface="MS Mincho"/>
              </a:rPr>
              <a:t>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BrowalliaUPC"/>
                <a:ea typeface="BrowalliaUPC"/>
              </a:rPr>
              <a:t>MOLAR HEAT CALCULATION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The heat of combustion of methane is -890KJ/mol.  How much heat is released when 45g of methane are combusted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82" name="TextBox 3" descr=""/>
          <p:cNvPicPr/>
          <p:nvPr/>
        </p:nvPicPr>
        <p:blipFill>
          <a:blip r:embed="rId1"/>
          <a:stretch/>
        </p:blipFill>
        <p:spPr>
          <a:xfrm>
            <a:off x="1755720" y="2517840"/>
            <a:ext cx="4962600" cy="987480"/>
          </a:xfrm>
          <a:prstGeom prst="rect">
            <a:avLst/>
          </a:prstGeom>
          <a:ln w="0">
            <a:noFill/>
          </a:ln>
        </p:spPr>
      </p:pic>
      <p:sp>
        <p:nvSpPr>
          <p:cNvPr id="283" name="TextBox 5"/>
          <p:cNvSpPr/>
          <p:nvPr/>
        </p:nvSpPr>
        <p:spPr>
          <a:xfrm>
            <a:off x="685800" y="43434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How much heat would be required to melt 523g of osmium is its molar heat of fusion is 31.79 KJ/mol?</a:t>
            </a:r>
            <a:endParaRPr b="1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84" name="TextBox 6" descr=""/>
          <p:cNvPicPr/>
          <p:nvPr/>
        </p:nvPicPr>
        <p:blipFill>
          <a:blip r:embed="rId2"/>
          <a:stretch/>
        </p:blipFill>
        <p:spPr>
          <a:xfrm>
            <a:off x="1749600" y="5413320"/>
            <a:ext cx="4522680" cy="987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Potentially Useful Information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r water…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92934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  <a:ea typeface="Arial"/>
              </a:rPr>
              <a:t>H</a:t>
            </a:r>
            <a:r>
              <a:rPr b="0" lang="en-US" sz="2000" spc="-1" strike="noStrike" baseline="-25000">
                <a:solidFill>
                  <a:srgbClr val="292934"/>
                </a:solidFill>
                <a:latin typeface="Arial"/>
                <a:ea typeface="Arial"/>
              </a:rPr>
              <a:t>fus 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  <a:ea typeface="Arial"/>
              </a:rPr>
              <a:t>= 6.01 KJ/mol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92934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  <a:ea typeface="Arial"/>
              </a:rPr>
              <a:t>H</a:t>
            </a:r>
            <a:r>
              <a:rPr b="0" lang="en-US" sz="2000" spc="-1" strike="noStrike" baseline="-25000">
                <a:solidFill>
                  <a:srgbClr val="292934"/>
                </a:solidFill>
                <a:latin typeface="Arial"/>
                <a:ea typeface="Arial"/>
              </a:rPr>
              <a:t>vap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  <a:ea typeface="Arial"/>
              </a:rPr>
              <a:t>= 40.7 KJ/mol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  <a:ea typeface="Arial"/>
              </a:rPr>
              <a:t>What about…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292934"/>
                </a:solidFill>
                <a:latin typeface="Arial"/>
                <a:ea typeface="Arial"/>
              </a:rPr>
              <a:t>Δ</a:t>
            </a:r>
            <a:r>
              <a:rPr b="0" lang="en-US" sz="1600" spc="-1" strike="noStrike">
                <a:solidFill>
                  <a:srgbClr val="292934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 baseline="-25000">
                <a:solidFill>
                  <a:srgbClr val="292934"/>
                </a:solidFill>
                <a:latin typeface="Arial"/>
                <a:ea typeface="Arial"/>
              </a:rPr>
              <a:t>solid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292934"/>
                </a:solidFill>
                <a:latin typeface="Arial"/>
                <a:ea typeface="Arial"/>
              </a:rPr>
              <a:t>Δ</a:t>
            </a:r>
            <a:r>
              <a:rPr b="0" lang="en-US" sz="1600" spc="-1" strike="noStrike">
                <a:solidFill>
                  <a:srgbClr val="292934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 baseline="-25000">
                <a:solidFill>
                  <a:srgbClr val="292934"/>
                </a:solidFill>
                <a:latin typeface="Arial"/>
                <a:ea typeface="Arial"/>
              </a:rPr>
              <a:t>cond 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BrowalliaUPC"/>
                <a:ea typeface="BrowalliaUPC"/>
              </a:rPr>
              <a:t>PHASE CHANGES AND ENTHALPY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88" name="Picture 6" descr="aim10"/>
          <p:cNvPicPr/>
          <p:nvPr/>
        </p:nvPicPr>
        <p:blipFill>
          <a:blip r:embed="rId1"/>
          <a:stretch/>
        </p:blipFill>
        <p:spPr>
          <a:xfrm>
            <a:off x="457200" y="2808360"/>
            <a:ext cx="8191440" cy="403848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"/>
          <p:cNvSpPr/>
          <p:nvPr/>
        </p:nvSpPr>
        <p:spPr>
          <a:xfrm>
            <a:off x="4898520" y="4122720"/>
            <a:ext cx="2220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0000"/>
                </a:solidFill>
                <a:latin typeface="Arial"/>
                <a:ea typeface="Arial"/>
              </a:rPr>
              <a:t>Δ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vap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= 40.7 KJ/mol</a:t>
            </a:r>
            <a:endParaRPr b="1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2013120" y="5979960"/>
            <a:ext cx="57780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1" name="Rectangle 1"/>
          <p:cNvSpPr/>
          <p:nvPr/>
        </p:nvSpPr>
        <p:spPr>
          <a:xfrm>
            <a:off x="1447920" y="5796000"/>
            <a:ext cx="2685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0000"/>
                </a:solidFill>
                <a:latin typeface="Arial"/>
                <a:ea typeface="Arial"/>
              </a:rPr>
              <a:t>Δ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fus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= 6.01 KJ/mol</a:t>
            </a:r>
            <a:endParaRPr b="1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1318320" y="5800680"/>
            <a:ext cx="508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92934"/>
                </a:solidFill>
                <a:latin typeface="Arial"/>
              </a:rPr>
              <a:t>solid</a:t>
            </a:r>
            <a:endParaRPr b="1" lang="en-US" sz="11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3" name="TextBox 5"/>
          <p:cNvSpPr/>
          <p:nvPr/>
        </p:nvSpPr>
        <p:spPr>
          <a:xfrm>
            <a:off x="628560" y="160020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To calculate the amount of heat absorbed or released as a substance changes state, q=mc</a:t>
            </a:r>
            <a:r>
              <a:rPr b="0" lang="en-US" sz="2400" spc="-1" strike="noStrike">
                <a:solidFill>
                  <a:srgbClr val="292934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T for pure states and molar heats for phase changes.</a:t>
            </a:r>
            <a:endParaRPr b="1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4" name="TextBox 7"/>
          <p:cNvSpPr/>
          <p:nvPr/>
        </p:nvSpPr>
        <p:spPr>
          <a:xfrm>
            <a:off x="5095800" y="29448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OR WATER</a:t>
            </a:r>
            <a:endParaRPr b="1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Sample Problem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alculate the total enthalpy change when 42.0 grams of ice at -10</a:t>
            </a:r>
            <a:r>
              <a:rPr b="0" lang="en-US" sz="2400" spc="-1" strike="noStrike" baseline="30000">
                <a:solidFill>
                  <a:srgbClr val="292934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 is warmed to water at 20</a:t>
            </a:r>
            <a:r>
              <a:rPr b="0" lang="en-US" sz="2400" spc="-1" strike="noStrike" baseline="30000">
                <a:solidFill>
                  <a:srgbClr val="292934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BrowalliaUPC"/>
                <a:ea typeface="BrowalliaUPC"/>
              </a:rPr>
              <a:t>HESS’S LAW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33520" y="13716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5960" indent="-1659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53926"/>
                </a:solidFill>
                <a:uFillTx/>
                <a:latin typeface="BrowalliaUPC"/>
                <a:ea typeface="BrowalliaUPC"/>
              </a:rPr>
              <a:t>Hess’s law of heat summation</a:t>
            </a:r>
            <a:r>
              <a:rPr b="1" lang="en-US" sz="2400" spc="-1" strike="noStrike">
                <a:solidFill>
                  <a:srgbClr val="a53926"/>
                </a:solidFill>
                <a:latin typeface="BrowalliaUPC"/>
                <a:ea typeface="BrowalliaUPC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states that if you add two or more thermochemical equations to give a final equation, then you can also add the heat changes to give the final heat chang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956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BrowalliaUPC"/>
                <a:ea typeface="BrowalliaUPC"/>
              </a:rPr>
              <a:t>	</a:t>
            </a:r>
            <a:r>
              <a:rPr b="0" lang="en-US" sz="1400" spc="-1" strike="noStrike">
                <a:solidFill>
                  <a:srgbClr val="292934"/>
                </a:solidFill>
                <a:latin typeface="BrowalliaUPC"/>
                <a:ea typeface="BrowalliaUPC"/>
              </a:rPr>
              <a:t>	</a:t>
            </a:r>
            <a:r>
              <a:rPr b="0" lang="en-US" sz="1400" spc="-1" strike="noStrike">
                <a:solidFill>
                  <a:srgbClr val="292934"/>
                </a:solidFill>
                <a:latin typeface="BrowalliaUPC"/>
                <a:ea typeface="BrowalliaUPC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EXAMPL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65960" indent="-165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Calculate the value of  H</a:t>
            </a:r>
            <a:r>
              <a:rPr b="0" lang="en-US" sz="2400" spc="-1" strike="noStrike" baseline="30000">
                <a:solidFill>
                  <a:srgbClr val="292934"/>
                </a:solidFill>
                <a:latin typeface="BrowalliaUPC"/>
                <a:ea typeface="BrowalliaUPC"/>
              </a:rPr>
              <a:t>o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/kJ for the following reaction using the listed thermochemical equations: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65960" indent="-165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                                    </a:t>
            </a:r>
            <a:r>
              <a:rPr b="1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2 F</a:t>
            </a:r>
            <a:r>
              <a:rPr b="1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2(g) </a:t>
            </a:r>
            <a:r>
              <a:rPr b="1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+ 2 H</a:t>
            </a:r>
            <a:r>
              <a:rPr b="1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2</a:t>
            </a:r>
            <a:r>
              <a:rPr b="1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O</a:t>
            </a:r>
            <a:r>
              <a:rPr b="1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(l)         </a:t>
            </a:r>
            <a:r>
              <a:rPr b="1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4 HF</a:t>
            </a:r>
            <a:r>
              <a:rPr b="1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(g) </a:t>
            </a:r>
            <a:r>
              <a:rPr b="1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+ O</a:t>
            </a:r>
            <a:r>
              <a:rPr b="1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2(g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65960" indent="-165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H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2(g) 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+ F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2(g)         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2 HF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(g)  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H</a:t>
            </a:r>
            <a:r>
              <a:rPr b="0" lang="en-US" sz="2400" spc="-1" strike="noStrike" baseline="30000">
                <a:solidFill>
                  <a:srgbClr val="292934"/>
                </a:solidFill>
                <a:latin typeface="BrowalliaUPC"/>
                <a:ea typeface="BrowalliaUPC"/>
              </a:rPr>
              <a:t>o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/kJ = - 542 kJ</a:t>
            </a:r>
            <a:br>
              <a:rPr sz="2400"/>
            </a:b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           2 H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2(g) 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+ O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2(g)        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2 H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2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O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(l)  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H</a:t>
            </a:r>
            <a:r>
              <a:rPr b="0" lang="en-US" sz="2400" spc="-1" strike="noStrike" baseline="30000">
                <a:solidFill>
                  <a:srgbClr val="292934"/>
                </a:solidFill>
                <a:latin typeface="BrowalliaUPC"/>
                <a:ea typeface="BrowalliaUPC"/>
              </a:rPr>
              <a:t>o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/kJ = - 572 kJ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cxnSp>
        <p:nvCxnSpPr>
          <p:cNvPr id="299" name="Straight Arrow Connector 2"/>
          <p:cNvCxnSpPr/>
          <p:nvPr/>
        </p:nvCxnSpPr>
        <p:spPr>
          <a:xfrm>
            <a:off x="4422240" y="3885840"/>
            <a:ext cx="305640" cy="1080"/>
          </a:xfrm>
          <a:prstGeom prst="straightConnector1">
            <a:avLst/>
          </a:prstGeom>
          <a:ln w="12600">
            <a:solidFill>
              <a:srgbClr val="22210c"/>
            </a:solidFill>
            <a:miter/>
            <a:tailEnd len="med" type="arrow" w="med"/>
          </a:ln>
        </p:spPr>
      </p:cxnSp>
      <p:cxnSp>
        <p:nvCxnSpPr>
          <p:cNvPr id="300" name="Straight Arrow Connector 5"/>
          <p:cNvCxnSpPr/>
          <p:nvPr/>
        </p:nvCxnSpPr>
        <p:spPr>
          <a:xfrm>
            <a:off x="3476160" y="4647960"/>
            <a:ext cx="305640" cy="1080"/>
          </a:xfrm>
          <a:prstGeom prst="straightConnector1">
            <a:avLst/>
          </a:prstGeom>
          <a:ln w="12600">
            <a:solidFill>
              <a:srgbClr val="22210c"/>
            </a:solidFill>
            <a:miter/>
            <a:tailEnd len="med" type="arrow" w="med"/>
          </a:ln>
        </p:spPr>
      </p:cxnSp>
      <p:cxnSp>
        <p:nvCxnSpPr>
          <p:cNvPr id="301" name="Straight Arrow Connector 6"/>
          <p:cNvCxnSpPr/>
          <p:nvPr/>
        </p:nvCxnSpPr>
        <p:spPr>
          <a:xfrm>
            <a:off x="3459240" y="4343040"/>
            <a:ext cx="305280" cy="1080"/>
          </a:xfrm>
          <a:prstGeom prst="straightConnector1">
            <a:avLst/>
          </a:prstGeom>
          <a:ln w="12600">
            <a:solidFill>
              <a:srgbClr val="22210c"/>
            </a:solidFill>
            <a:miter/>
            <a:tailEnd len="med" type="arrow" w="med"/>
          </a:ln>
        </p:spPr>
      </p:cxnSp>
      <p:grpSp>
        <p:nvGrpSpPr>
          <p:cNvPr id="302" name="Group 15"/>
          <p:cNvGrpSpPr/>
          <p:nvPr/>
        </p:nvGrpSpPr>
        <p:grpSpPr>
          <a:xfrm>
            <a:off x="1601640" y="5029200"/>
            <a:ext cx="5996520" cy="875880"/>
            <a:chOff x="1601640" y="5029200"/>
            <a:chExt cx="5996520" cy="875880"/>
          </a:xfrm>
        </p:grpSpPr>
        <p:sp>
          <p:nvSpPr>
            <p:cNvPr id="303" name="TextBox 3"/>
            <p:cNvSpPr/>
            <p:nvPr/>
          </p:nvSpPr>
          <p:spPr>
            <a:xfrm>
              <a:off x="1601640" y="5029200"/>
              <a:ext cx="59965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2934"/>
                  </a:solidFill>
                  <a:latin typeface="BrowalliaUPC"/>
                  <a:ea typeface="BrowalliaUPC"/>
                </a:rPr>
                <a:t>H</a:t>
              </a:r>
              <a:r>
                <a:rPr b="1" lang="en-US" sz="2400" spc="-1" strike="noStrike" baseline="-25000">
                  <a:solidFill>
                    <a:srgbClr val="292934"/>
                  </a:solidFill>
                  <a:latin typeface="BrowalliaUPC"/>
                  <a:ea typeface="BrowalliaUPC"/>
                </a:rPr>
                <a:t>2(g) </a:t>
              </a:r>
              <a:r>
                <a:rPr b="1" lang="en-US" sz="2400" spc="-1" strike="noStrike">
                  <a:solidFill>
                    <a:srgbClr val="292934"/>
                  </a:solidFill>
                  <a:latin typeface="BrowalliaUPC"/>
                  <a:ea typeface="BrowalliaUPC"/>
                </a:rPr>
                <a:t>+ F</a:t>
              </a:r>
              <a:r>
                <a:rPr b="1" lang="en-US" sz="2400" spc="-1" strike="noStrike" baseline="-25000">
                  <a:solidFill>
                    <a:srgbClr val="292934"/>
                  </a:solidFill>
                  <a:latin typeface="BrowalliaUPC"/>
                  <a:ea typeface="BrowalliaUPC"/>
                </a:rPr>
                <a:t>2(g)              </a:t>
              </a:r>
              <a:r>
                <a:rPr b="1" lang="en-US" sz="2400" spc="-1" strike="noStrike">
                  <a:solidFill>
                    <a:srgbClr val="292934"/>
                  </a:solidFill>
                  <a:latin typeface="BrowalliaUPC"/>
                  <a:ea typeface="BrowalliaUPC"/>
                </a:rPr>
                <a:t>2 HF</a:t>
              </a:r>
              <a:r>
                <a:rPr b="1" lang="en-US" sz="2400" spc="-1" strike="noStrike" baseline="-25000">
                  <a:solidFill>
                    <a:srgbClr val="292934"/>
                  </a:solidFill>
                  <a:latin typeface="BrowalliaUPC"/>
                  <a:ea typeface="BrowalliaUPC"/>
                </a:rPr>
                <a:t>(g)  </a:t>
              </a:r>
              <a:r>
                <a:rPr b="1" lang="en-US" sz="2400" spc="-1" strike="noStrike" baseline="-25000">
                  <a:solidFill>
                    <a:srgbClr val="292934"/>
                  </a:solidFill>
                  <a:latin typeface="BrowalliaUPC"/>
                  <a:ea typeface="BrowalliaUPC"/>
                </a:rPr>
                <a:t>	</a:t>
              </a:r>
              <a:r>
                <a:rPr b="1" lang="en-US" sz="2400" spc="-1" strike="noStrike">
                  <a:solidFill>
                    <a:srgbClr val="292934"/>
                  </a:solidFill>
                  <a:latin typeface="BrowalliaUPC"/>
                  <a:ea typeface="BrowalliaUPC"/>
                </a:rPr>
                <a:t>H</a:t>
              </a:r>
              <a:r>
                <a:rPr b="1" lang="en-US" sz="2400" spc="-1" strike="noStrike" baseline="30000">
                  <a:solidFill>
                    <a:srgbClr val="292934"/>
                  </a:solidFill>
                  <a:latin typeface="BrowalliaUPC"/>
                  <a:ea typeface="BrowalliaUPC"/>
                </a:rPr>
                <a:t>o</a:t>
              </a:r>
              <a:r>
                <a:rPr b="1" lang="en-US" sz="2400" spc="-1" strike="noStrike">
                  <a:solidFill>
                    <a:srgbClr val="292934"/>
                  </a:solidFill>
                  <a:latin typeface="BrowalliaUPC"/>
                  <a:ea typeface="BrowalliaUPC"/>
                </a:rPr>
                <a:t>/kJ = - 542 kJ</a:t>
              </a:r>
              <a:br>
                <a:rPr sz="2400"/>
              </a:br>
              <a:endParaRPr b="1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cxnSp>
          <p:nvCxnSpPr>
            <p:cNvPr id="304" name="Straight Arrow Connector 9"/>
            <p:cNvCxnSpPr/>
            <p:nvPr/>
          </p:nvCxnSpPr>
          <p:spPr>
            <a:xfrm>
              <a:off x="3550320" y="5257440"/>
              <a:ext cx="305280" cy="1080"/>
            </a:xfrm>
            <a:prstGeom prst="straightConnector1">
              <a:avLst/>
            </a:prstGeom>
            <a:ln w="12600">
              <a:solidFill>
                <a:srgbClr val="22210c"/>
              </a:solidFill>
              <a:miter/>
              <a:tailEnd len="med" type="arrow" w="med"/>
            </a:ln>
          </p:spPr>
        </p:cxnSp>
      </p:grpSp>
      <p:sp>
        <p:nvSpPr>
          <p:cNvPr id="305" name="Straight Connector 7"/>
          <p:cNvSpPr/>
          <p:nvPr/>
        </p:nvSpPr>
        <p:spPr>
          <a:xfrm>
            <a:off x="2254320" y="5867280"/>
            <a:ext cx="4876560" cy="0"/>
          </a:xfrm>
          <a:prstGeom prst="line">
            <a:avLst/>
          </a:prstGeom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306" name="Group 16"/>
          <p:cNvGrpSpPr/>
          <p:nvPr/>
        </p:nvGrpSpPr>
        <p:grpSpPr>
          <a:xfrm>
            <a:off x="1131480" y="5497560"/>
            <a:ext cx="6987240" cy="875880"/>
            <a:chOff x="1131480" y="5497560"/>
            <a:chExt cx="6987240" cy="875880"/>
          </a:xfrm>
        </p:grpSpPr>
        <p:cxnSp>
          <p:nvCxnSpPr>
            <p:cNvPr id="307" name="Straight Arrow Connector 8"/>
            <p:cNvCxnSpPr/>
            <p:nvPr/>
          </p:nvCxnSpPr>
          <p:spPr>
            <a:xfrm>
              <a:off x="3513600" y="5714280"/>
              <a:ext cx="305280" cy="1080"/>
            </a:xfrm>
            <a:prstGeom prst="straightConnector1">
              <a:avLst/>
            </a:prstGeom>
            <a:ln w="12600">
              <a:solidFill>
                <a:srgbClr val="22210c"/>
              </a:solidFill>
              <a:miter/>
              <a:tailEnd len="med" type="arrow" w="med"/>
            </a:ln>
          </p:spPr>
        </p:cxnSp>
        <p:sp>
          <p:nvSpPr>
            <p:cNvPr id="308" name="TextBox 11"/>
            <p:cNvSpPr/>
            <p:nvPr/>
          </p:nvSpPr>
          <p:spPr>
            <a:xfrm>
              <a:off x="1131480" y="5497560"/>
              <a:ext cx="698724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2934"/>
                  </a:solidFill>
                  <a:latin typeface="BrowalliaUPC"/>
                  <a:ea typeface="BrowalliaUPC"/>
                </a:rPr>
                <a:t>     </a:t>
              </a:r>
              <a:r>
                <a:rPr b="1" lang="en-US" sz="2400" spc="-1" strike="noStrike">
                  <a:solidFill>
                    <a:srgbClr val="292934"/>
                  </a:solidFill>
                  <a:latin typeface="BrowalliaUPC"/>
                  <a:ea typeface="BrowalliaUPC"/>
                </a:rPr>
                <a:t>2 H</a:t>
              </a:r>
              <a:r>
                <a:rPr b="1" lang="en-US" sz="2400" spc="-1" strike="noStrike" baseline="-25000">
                  <a:solidFill>
                    <a:srgbClr val="292934"/>
                  </a:solidFill>
                  <a:latin typeface="BrowalliaUPC"/>
                  <a:ea typeface="BrowalliaUPC"/>
                </a:rPr>
                <a:t>2</a:t>
              </a:r>
              <a:r>
                <a:rPr b="1" lang="en-US" sz="2400" spc="-1" strike="noStrike">
                  <a:solidFill>
                    <a:srgbClr val="292934"/>
                  </a:solidFill>
                  <a:latin typeface="BrowalliaUPC"/>
                  <a:ea typeface="BrowalliaUPC"/>
                </a:rPr>
                <a:t>O</a:t>
              </a:r>
              <a:r>
                <a:rPr b="1" lang="en-US" sz="2400" spc="-1" strike="noStrike" baseline="-25000">
                  <a:solidFill>
                    <a:srgbClr val="292934"/>
                  </a:solidFill>
                  <a:latin typeface="BrowalliaUPC"/>
                  <a:ea typeface="BrowalliaUPC"/>
                </a:rPr>
                <a:t>(l)   </a:t>
              </a:r>
              <a:r>
                <a:rPr b="1" lang="en-US" sz="2400" spc="-1" strike="noStrike">
                  <a:solidFill>
                    <a:srgbClr val="292934"/>
                  </a:solidFill>
                  <a:latin typeface="BrowalliaUPC"/>
                  <a:ea typeface="BrowalliaUPC"/>
                </a:rPr>
                <a:t>       2 H</a:t>
              </a:r>
              <a:r>
                <a:rPr b="1" lang="en-US" sz="2400" spc="-1" strike="noStrike" baseline="-25000">
                  <a:solidFill>
                    <a:srgbClr val="292934"/>
                  </a:solidFill>
                  <a:latin typeface="BrowalliaUPC"/>
                  <a:ea typeface="BrowalliaUPC"/>
                </a:rPr>
                <a:t>2(g) </a:t>
              </a:r>
              <a:r>
                <a:rPr b="1" lang="en-US" sz="2400" spc="-1" strike="noStrike">
                  <a:solidFill>
                    <a:srgbClr val="292934"/>
                  </a:solidFill>
                  <a:latin typeface="BrowalliaUPC"/>
                  <a:ea typeface="BrowalliaUPC"/>
                </a:rPr>
                <a:t>+ O</a:t>
              </a:r>
              <a:r>
                <a:rPr b="1" lang="en-US" sz="2400" spc="-1" strike="noStrike" baseline="-25000">
                  <a:solidFill>
                    <a:srgbClr val="292934"/>
                  </a:solidFill>
                  <a:latin typeface="BrowalliaUPC"/>
                  <a:ea typeface="BrowalliaUPC"/>
                </a:rPr>
                <a:t>2(g) </a:t>
              </a:r>
              <a:r>
                <a:rPr b="1" lang="en-US" sz="2400" spc="-1" strike="noStrike" baseline="-25000">
                  <a:solidFill>
                    <a:srgbClr val="292934"/>
                  </a:solidFill>
                  <a:latin typeface="BrowalliaUPC"/>
                  <a:ea typeface="BrowalliaUPC"/>
                </a:rPr>
                <a:t>	</a:t>
              </a:r>
              <a:r>
                <a:rPr b="1" lang="en-US" sz="2400" spc="-1" strike="noStrike">
                  <a:solidFill>
                    <a:srgbClr val="292934"/>
                  </a:solidFill>
                  <a:latin typeface="BrowalliaUPC"/>
                  <a:ea typeface="BrowalliaUPC"/>
                </a:rPr>
                <a:t>H</a:t>
              </a:r>
              <a:r>
                <a:rPr b="1" lang="en-US" sz="2400" spc="-1" strike="noStrike" baseline="30000">
                  <a:solidFill>
                    <a:srgbClr val="292934"/>
                  </a:solidFill>
                  <a:latin typeface="BrowalliaUPC"/>
                  <a:ea typeface="BrowalliaUPC"/>
                </a:rPr>
                <a:t>o</a:t>
              </a:r>
              <a:r>
                <a:rPr b="1" lang="en-US" sz="2400" spc="-1" strike="noStrike">
                  <a:solidFill>
                    <a:srgbClr val="292934"/>
                  </a:solidFill>
                  <a:latin typeface="BrowalliaUPC"/>
                  <a:ea typeface="BrowalliaUPC"/>
                </a:rPr>
                <a:t>/kJ = + 572 kJ</a:t>
              </a:r>
              <a:endParaRPr b="1" lang="en-US" sz="2400" spc="-1" strike="noStrike">
                <a:solidFill>
                  <a:srgbClr val="292934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309" name="Straight Connector 18"/>
          <p:cNvSpPr/>
          <p:nvPr/>
        </p:nvSpPr>
        <p:spPr>
          <a:xfrm flipH="1">
            <a:off x="2457360" y="5105520"/>
            <a:ext cx="152640" cy="260280"/>
          </a:xfrm>
          <a:prstGeom prst="line">
            <a:avLst/>
          </a:prstGeom>
          <a:ln w="1908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0" name="Straight Connector 22"/>
          <p:cNvSpPr/>
          <p:nvPr/>
        </p:nvSpPr>
        <p:spPr>
          <a:xfrm flipH="1">
            <a:off x="4038480" y="5584680"/>
            <a:ext cx="152640" cy="260640"/>
          </a:xfrm>
          <a:prstGeom prst="line">
            <a:avLst/>
          </a:prstGeom>
          <a:ln w="1908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311" name="Group 21"/>
          <p:cNvGrpSpPr/>
          <p:nvPr/>
        </p:nvGrpSpPr>
        <p:grpSpPr>
          <a:xfrm>
            <a:off x="720000" y="6005520"/>
            <a:ext cx="7257960" cy="748800"/>
            <a:chOff x="720000" y="6005520"/>
            <a:chExt cx="7257960" cy="748800"/>
          </a:xfrm>
        </p:grpSpPr>
        <p:sp>
          <p:nvSpPr>
            <p:cNvPr id="312" name="TextBox 20"/>
            <p:cNvSpPr/>
            <p:nvPr/>
          </p:nvSpPr>
          <p:spPr>
            <a:xfrm>
              <a:off x="720000" y="6005520"/>
              <a:ext cx="7257960" cy="74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2934"/>
                  </a:solidFill>
                  <a:latin typeface="BrowalliaUPC"/>
                  <a:ea typeface="BrowalliaUPC"/>
                </a:rPr>
                <a:t>   </a:t>
              </a:r>
              <a:r>
                <a:rPr b="1" lang="en-US" sz="2400" spc="-1" strike="noStrike">
                  <a:solidFill>
                    <a:srgbClr val="292934"/>
                  </a:solidFill>
                  <a:latin typeface="BrowalliaUPC"/>
                  <a:ea typeface="BrowalliaUPC"/>
                </a:rPr>
                <a:t>2 F</a:t>
              </a:r>
              <a:r>
                <a:rPr b="1" lang="en-US" sz="2400" spc="-1" strike="noStrike" baseline="-25000">
                  <a:solidFill>
                    <a:srgbClr val="292934"/>
                  </a:solidFill>
                  <a:latin typeface="BrowalliaUPC"/>
                  <a:ea typeface="BrowalliaUPC"/>
                </a:rPr>
                <a:t>2(g) </a:t>
              </a:r>
              <a:r>
                <a:rPr b="1" lang="en-US" sz="2400" spc="-1" strike="noStrike">
                  <a:solidFill>
                    <a:srgbClr val="292934"/>
                  </a:solidFill>
                  <a:latin typeface="BrowalliaUPC"/>
                  <a:ea typeface="BrowalliaUPC"/>
                </a:rPr>
                <a:t>+ 2 H</a:t>
              </a:r>
              <a:r>
                <a:rPr b="1" lang="en-US" sz="2400" spc="-1" strike="noStrike" baseline="-25000">
                  <a:solidFill>
                    <a:srgbClr val="292934"/>
                  </a:solidFill>
                  <a:latin typeface="BrowalliaUPC"/>
                  <a:ea typeface="BrowalliaUPC"/>
                </a:rPr>
                <a:t>2</a:t>
              </a:r>
              <a:r>
                <a:rPr b="1" lang="en-US" sz="2400" spc="-1" strike="noStrike">
                  <a:solidFill>
                    <a:srgbClr val="292934"/>
                  </a:solidFill>
                  <a:latin typeface="BrowalliaUPC"/>
                  <a:ea typeface="BrowalliaUPC"/>
                </a:rPr>
                <a:t>O</a:t>
              </a:r>
              <a:r>
                <a:rPr b="1" lang="en-US" sz="2400" spc="-1" strike="noStrike" baseline="-25000">
                  <a:solidFill>
                    <a:srgbClr val="292934"/>
                  </a:solidFill>
                  <a:latin typeface="BrowalliaUPC"/>
                  <a:ea typeface="BrowalliaUPC"/>
                </a:rPr>
                <a:t>(l)             </a:t>
              </a:r>
              <a:r>
                <a:rPr b="1" lang="en-US" sz="2400" spc="-1" strike="noStrike">
                  <a:solidFill>
                    <a:srgbClr val="292934"/>
                  </a:solidFill>
                  <a:latin typeface="BrowalliaUPC"/>
                  <a:ea typeface="BrowalliaUPC"/>
                </a:rPr>
                <a:t>4 HF</a:t>
              </a:r>
              <a:r>
                <a:rPr b="1" lang="en-US" sz="2400" spc="-1" strike="noStrike" baseline="-25000">
                  <a:solidFill>
                    <a:srgbClr val="292934"/>
                  </a:solidFill>
                  <a:latin typeface="BrowalliaUPC"/>
                  <a:ea typeface="BrowalliaUPC"/>
                </a:rPr>
                <a:t>(g) </a:t>
              </a:r>
              <a:r>
                <a:rPr b="1" lang="en-US" sz="2400" spc="-1" strike="noStrike">
                  <a:solidFill>
                    <a:srgbClr val="292934"/>
                  </a:solidFill>
                  <a:latin typeface="BrowalliaUPC"/>
                  <a:ea typeface="BrowalliaUPC"/>
                </a:rPr>
                <a:t>+ O</a:t>
              </a:r>
              <a:r>
                <a:rPr b="1" lang="en-US" sz="2400" spc="-1" strike="noStrike" baseline="-25000">
                  <a:solidFill>
                    <a:srgbClr val="292934"/>
                  </a:solidFill>
                  <a:latin typeface="BrowalliaUPC"/>
                  <a:ea typeface="BrowalliaUPC"/>
                </a:rPr>
                <a:t>2(g)          </a:t>
              </a:r>
              <a:r>
                <a:rPr b="1" lang="en-US" sz="2400" spc="-1" strike="noStrike">
                  <a:solidFill>
                    <a:srgbClr val="292934"/>
                  </a:solidFill>
                  <a:latin typeface="BrowalliaUPC"/>
                  <a:ea typeface="BrowalliaUPC"/>
                </a:rPr>
                <a:t>H</a:t>
              </a:r>
              <a:r>
                <a:rPr b="1" lang="en-US" sz="2400" spc="-1" strike="noStrike" baseline="30000">
                  <a:solidFill>
                    <a:srgbClr val="292934"/>
                  </a:solidFill>
                  <a:latin typeface="BrowalliaUPC"/>
                  <a:ea typeface="BrowalliaUPC"/>
                </a:rPr>
                <a:t>o</a:t>
              </a:r>
              <a:r>
                <a:rPr b="1" lang="en-US" sz="2400" spc="-1" strike="noStrike">
                  <a:solidFill>
                    <a:srgbClr val="292934"/>
                  </a:solidFill>
                  <a:latin typeface="BrowalliaUPC"/>
                  <a:ea typeface="BrowalliaUPC"/>
                </a:rPr>
                <a:t>/kJ = +30 kJ</a:t>
              </a:r>
              <a:endParaRPr b="1" lang="en-US" sz="2400" spc="-1" strike="noStrike">
                <a:solidFill>
                  <a:srgbClr val="292934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baseline="-25000">
                  <a:solidFill>
                    <a:srgbClr val="292934"/>
                  </a:solidFill>
                  <a:latin typeface="BrowalliaUPC"/>
                  <a:ea typeface="BrowalliaUPC"/>
                </a:rPr>
                <a:t>  </a:t>
              </a:r>
              <a:r>
                <a:rPr b="1" lang="en-US" sz="1800" spc="-1" strike="noStrike">
                  <a:solidFill>
                    <a:srgbClr val="292934"/>
                  </a:solidFill>
                  <a:latin typeface="BrowalliaUPC"/>
                  <a:ea typeface="BrowalliaUPC"/>
                </a:rPr>
                <a:t>  </a:t>
              </a:r>
              <a:endParaRPr b="1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cxnSp>
          <p:nvCxnSpPr>
            <p:cNvPr id="313" name="Straight Arrow Connector 24"/>
            <p:cNvCxnSpPr/>
            <p:nvPr/>
          </p:nvCxnSpPr>
          <p:spPr>
            <a:xfrm>
              <a:off x="3466080" y="6171840"/>
              <a:ext cx="305280" cy="1080"/>
            </a:xfrm>
            <a:prstGeom prst="straightConnector1">
              <a:avLst/>
            </a:prstGeom>
            <a:ln w="12600">
              <a:solidFill>
                <a:srgbClr val="22210c"/>
              </a:solidFill>
              <a:miter/>
              <a:tailEnd len="med" type="arrow" w="med"/>
            </a:ln>
          </p:spPr>
        </p:cxnSp>
      </p:grpSp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BrowalliaUPC"/>
                <a:ea typeface="BrowalliaUPC"/>
              </a:rPr>
              <a:t>STANDARD HEATS OF FORMATION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The </a:t>
            </a:r>
            <a:r>
              <a:rPr b="1" lang="en-US" sz="2400" spc="-1" strike="noStrike" u="sng">
                <a:solidFill>
                  <a:srgbClr val="a53926"/>
                </a:solidFill>
                <a:uFillTx/>
                <a:latin typeface="BrowalliaUPC"/>
                <a:ea typeface="BrowalliaUPC"/>
              </a:rPr>
              <a:t>standard heat of formation</a:t>
            </a:r>
            <a:r>
              <a:rPr b="1" lang="en-US" sz="2400" spc="-1" strike="noStrike">
                <a:solidFill>
                  <a:srgbClr val="a53926"/>
                </a:solidFill>
                <a:latin typeface="BrowalliaUPC"/>
                <a:ea typeface="BrowalliaUPC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(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△H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MS Mincho"/>
              </a:rPr>
              <a:t>f</a:t>
            </a:r>
            <a:r>
              <a:rPr b="0" lang="en-US" sz="2400" spc="-1" strike="noStrike" baseline="30000">
                <a:solidFill>
                  <a:srgbClr val="292934"/>
                </a:solidFill>
                <a:latin typeface="BrowalliaUPC"/>
                <a:ea typeface="MS Mincho"/>
              </a:rPr>
              <a:t>o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) of a compound is the change in enthalpy that accompanies the formation of one mole of the compound from its elements with all substances in their standard states at 25 </a:t>
            </a:r>
            <a:r>
              <a:rPr b="0" lang="en-US" sz="2400" spc="-1" strike="noStrike" baseline="30000">
                <a:solidFill>
                  <a:srgbClr val="292934"/>
                </a:solidFill>
                <a:latin typeface="BrowalliaUPC"/>
                <a:ea typeface="MS Mincho"/>
              </a:rPr>
              <a:t>o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C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For free elements △H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MS Mincho"/>
              </a:rPr>
              <a:t>f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°=  0 in their standard state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Standard heat of reaction..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 △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H°= </a:t>
            </a:r>
            <a:r>
              <a:rPr b="0" lang="en-US" sz="2400" spc="-1" strike="noStrike">
                <a:solidFill>
                  <a:srgbClr val="292934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△H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MS Mincho"/>
              </a:rPr>
              <a:t>f</a:t>
            </a:r>
            <a:r>
              <a:rPr b="0" lang="en-US" sz="2400" spc="-1" strike="noStrike" baseline="30000">
                <a:solidFill>
                  <a:srgbClr val="292934"/>
                </a:solidFill>
                <a:latin typeface="BrowalliaUPC"/>
                <a:ea typeface="MS Mincho"/>
              </a:rPr>
              <a:t>o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MS Mincho"/>
              </a:rPr>
              <a:t>(products) 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- </a:t>
            </a:r>
            <a:r>
              <a:rPr b="0" lang="en-US" sz="2400" spc="-1" strike="noStrike">
                <a:solidFill>
                  <a:srgbClr val="292934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△H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MS Mincho"/>
              </a:rPr>
              <a:t>f</a:t>
            </a:r>
            <a:r>
              <a:rPr b="0" lang="en-US" sz="2400" spc="-1" strike="noStrike" baseline="30000">
                <a:solidFill>
                  <a:srgbClr val="292934"/>
                </a:solidFill>
                <a:latin typeface="BrowalliaUPC"/>
                <a:ea typeface="MS Mincho"/>
              </a:rPr>
              <a:t>o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MS Mincho"/>
              </a:rPr>
              <a:t>(reactants</a:t>
            </a:r>
            <a:r>
              <a:rPr b="0" lang="en-US" sz="2000" spc="-1" strike="noStrike" baseline="-25000">
                <a:solidFill>
                  <a:srgbClr val="292934"/>
                </a:solidFill>
                <a:latin typeface="MS Mincho"/>
                <a:ea typeface="MS Mincho"/>
              </a:rPr>
              <a:t>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MS Mincho"/>
                <a:ea typeface="MS Mincho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*Page 530 – standard heats of formation tabl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BrowalliaUPC"/>
                <a:ea typeface="BrowalliaUPC"/>
              </a:rPr>
              <a:t>ENERGY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53926"/>
                </a:solidFill>
                <a:uFillTx/>
                <a:latin typeface="BrowalliaUPC"/>
                <a:ea typeface="BrowalliaUPC"/>
              </a:rPr>
              <a:t>Thermochemistry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 is the study of the heat changes that occur during chemical reactions and physical changes of stat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53926"/>
                </a:solidFill>
                <a:uFillTx/>
                <a:latin typeface="BrowalliaUPC"/>
                <a:ea typeface="BrowalliaUPC"/>
              </a:rPr>
              <a:t>Heat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 (q) is a form of energy that always flows from a warmer object to a cooler object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53926"/>
                </a:solidFill>
                <a:uFillTx/>
                <a:latin typeface="BrowalliaUPC"/>
                <a:ea typeface="BrowalliaUPC"/>
              </a:rPr>
              <a:t>Energy</a:t>
            </a:r>
            <a:r>
              <a:rPr b="1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is the capacity to do work or to supply heat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Kinetic energy and </a:t>
            </a:r>
            <a:r>
              <a:rPr b="1" lang="en-US" sz="2400" spc="-1" strike="noStrike" u="sng">
                <a:solidFill>
                  <a:srgbClr val="a53926"/>
                </a:solidFill>
                <a:uFillTx/>
                <a:latin typeface="BrowalliaUPC"/>
                <a:ea typeface="BrowalliaUPC"/>
              </a:rPr>
              <a:t>Chemical Potential Energ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energy stored in chemicals because of their composition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3" name="Picture 7" descr="MCj04136240000[1]"/>
          <p:cNvPicPr/>
          <p:nvPr/>
        </p:nvPicPr>
        <p:blipFill>
          <a:blip r:embed="rId1"/>
          <a:stretch/>
        </p:blipFill>
        <p:spPr>
          <a:xfrm>
            <a:off x="914400" y="4495680"/>
            <a:ext cx="1293840" cy="1946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BrowalliaUPC"/>
                <a:ea typeface="BrowalliaUPC"/>
              </a:rPr>
              <a:t>EXAMPL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Calculate the heat of reaction (kJ) using the listed heats of formation: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	</a:t>
            </a:r>
            <a:r>
              <a:rPr b="1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CH</a:t>
            </a:r>
            <a:r>
              <a:rPr b="1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4</a:t>
            </a:r>
            <a:r>
              <a:rPr b="1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(g) + 4 F</a:t>
            </a:r>
            <a:r>
              <a:rPr b="1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2</a:t>
            </a:r>
            <a:r>
              <a:rPr b="1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(g)      CF</a:t>
            </a:r>
            <a:r>
              <a:rPr b="1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4</a:t>
            </a:r>
            <a:r>
              <a:rPr b="1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(g) + 4 HF(g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H</a:t>
            </a:r>
            <a:r>
              <a:rPr b="0" lang="en-US" sz="2400" spc="-1" strike="noStrike" baseline="30000">
                <a:solidFill>
                  <a:srgbClr val="292934"/>
                </a:solidFill>
                <a:latin typeface="BrowalliaUPC"/>
                <a:ea typeface="BrowalliaUPC"/>
              </a:rPr>
              <a:t>o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f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 CH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4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 = -74.86 kJ/mole</a:t>
            </a:r>
            <a:br>
              <a:rPr sz="2400"/>
            </a:b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 H</a:t>
            </a:r>
            <a:r>
              <a:rPr b="0" lang="en-US" sz="2400" spc="-1" strike="noStrike" baseline="30000">
                <a:solidFill>
                  <a:srgbClr val="292934"/>
                </a:solidFill>
                <a:latin typeface="BrowalliaUPC"/>
                <a:ea typeface="BrowalliaUPC"/>
              </a:rPr>
              <a:t>o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f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 CF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4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 = -925.0 kJ/mole</a:t>
            </a:r>
            <a:br>
              <a:rPr sz="2400"/>
            </a:b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 H</a:t>
            </a:r>
            <a:r>
              <a:rPr b="0" lang="en-US" sz="2400" spc="-1" strike="noStrike" baseline="30000">
                <a:solidFill>
                  <a:srgbClr val="292934"/>
                </a:solidFill>
                <a:latin typeface="BrowalliaUPC"/>
                <a:ea typeface="BrowalliaUPC"/>
              </a:rPr>
              <a:t>o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BrowalliaUPC"/>
              </a:rPr>
              <a:t>f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 HF = -271.1 kJ/mole</a:t>
            </a:r>
            <a:br>
              <a:rPr sz="2600"/>
            </a:br>
            <a:br>
              <a:rPr sz="2600"/>
            </a:b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  <p:cxnSp>
        <p:nvCxnSpPr>
          <p:cNvPr id="318" name="Straight Arrow Connector 2"/>
          <p:cNvCxnSpPr/>
          <p:nvPr/>
        </p:nvCxnSpPr>
        <p:spPr>
          <a:xfrm>
            <a:off x="3885840" y="2209320"/>
            <a:ext cx="229320" cy="1080"/>
          </a:xfrm>
          <a:prstGeom prst="straightConnector1">
            <a:avLst/>
          </a:prstGeom>
          <a:ln w="28440">
            <a:solidFill>
              <a:srgbClr val="292934"/>
            </a:solidFill>
            <a:miter/>
            <a:tailEnd len="med" type="triangle" w="med"/>
          </a:ln>
        </p:spPr>
      </p:cxnSp>
      <p:sp>
        <p:nvSpPr>
          <p:cNvPr id="319" name="TextBox 3"/>
          <p:cNvSpPr/>
          <p:nvPr/>
        </p:nvSpPr>
        <p:spPr>
          <a:xfrm>
            <a:off x="-1930680" y="3886200"/>
            <a:ext cx="1295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Hf</a:t>
            </a:r>
            <a:r>
              <a:rPr b="0" lang="en-US" sz="2400" spc="-1" strike="noStrike" baseline="30000">
                <a:solidFill>
                  <a:srgbClr val="292934"/>
                </a:solidFill>
                <a:latin typeface="BrowalliaUPC"/>
                <a:ea typeface="BrowalliaUPC"/>
              </a:rPr>
              <a:t>o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 = ((-925kJ/mol) + (4moles x -271.1kJ/mol)) </a:t>
            </a:r>
            <a:r>
              <a:rPr b="0" lang="en-US" sz="4000" spc="-1" strike="noStrike">
                <a:solidFill>
                  <a:srgbClr val="292934"/>
                </a:solidFill>
                <a:latin typeface="BrowalliaUPC"/>
                <a:ea typeface="BrowalliaUPC"/>
              </a:rPr>
              <a:t>-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 ((1 mole x -74.86kJ/mol) + (1 x 0)) = </a:t>
            </a:r>
            <a:r>
              <a:rPr b="1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1935kJ</a:t>
            </a:r>
            <a:endParaRPr b="1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BrowalliaUPC"/>
                <a:ea typeface="BrowalliaUPC"/>
              </a:rPr>
              <a:t>ENERGY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218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34"/>
                </a:solidFill>
                <a:latin typeface="BrowalliaUPC"/>
                <a:ea typeface="BrowalliaUPC"/>
              </a:rPr>
              <a:t>Remember the law of conservation of energy?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In any chemical or physical process, energy is neither created nor destroyed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All energy can be accounted for as work, stored energy, or heat</a:t>
            </a:r>
            <a:r>
              <a:rPr b="1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6" name="TextBox 1"/>
          <p:cNvSpPr/>
          <p:nvPr/>
        </p:nvSpPr>
        <p:spPr>
          <a:xfrm>
            <a:off x="1026360" y="2685960"/>
            <a:ext cx="772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34"/>
                </a:solidFill>
                <a:latin typeface="Arial"/>
              </a:rPr>
              <a:t>System    +   Surroundings  =  Universe</a:t>
            </a:r>
            <a:endParaRPr b="1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92934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7" name="Picture 5" descr="http://www.scottslumber.com/uploads/images/Condensation/Glass%20Condensation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77160" y="4354560"/>
            <a:ext cx="1587240" cy="2376360"/>
          </a:xfrm>
          <a:prstGeom prst="rect">
            <a:avLst/>
          </a:prstGeom>
          <a:ln w="38160">
            <a:solidFill>
              <a:srgbClr val="6b7d72"/>
            </a:solidFill>
            <a:miter/>
          </a:ln>
        </p:spPr>
      </p:pic>
      <p:pic>
        <p:nvPicPr>
          <p:cNvPr id="228" name="Picture 7" descr="http://www.nc-climate.ncsu.edu/secc_edu/images/WhatMakesClouds3.jpg">
            <a:hlinkClick r:id="rId3"/>
          </p:cNvPr>
          <p:cNvPicPr/>
          <p:nvPr/>
        </p:nvPicPr>
        <p:blipFill>
          <a:blip r:embed="rId4"/>
          <a:srcRect l="0" t="0" r="0" b="4811"/>
          <a:stretch/>
        </p:blipFill>
        <p:spPr>
          <a:xfrm>
            <a:off x="1600200" y="4354560"/>
            <a:ext cx="3616200" cy="2363760"/>
          </a:xfrm>
          <a:prstGeom prst="rect">
            <a:avLst/>
          </a:prstGeom>
          <a:ln w="38160">
            <a:solidFill>
              <a:srgbClr val="6b7d72"/>
            </a:solidFill>
            <a:miter/>
          </a:ln>
        </p:spPr>
      </p:pic>
      <p:sp>
        <p:nvSpPr>
          <p:cNvPr id="229" name="TextBox 2"/>
          <p:cNvSpPr/>
          <p:nvPr/>
        </p:nvSpPr>
        <p:spPr>
          <a:xfrm>
            <a:off x="920880" y="3214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BrowalliaUPC"/>
                <a:ea typeface="BrowalliaUPC"/>
              </a:rPr>
              <a:t>Any specific part of the universe that attention is focused on</a:t>
            </a: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3807000" y="320976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BrowalliaUPC"/>
                <a:ea typeface="BrowalliaUPC"/>
              </a:rPr>
              <a:t>Includes everything outside the system.</a:t>
            </a: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1" name="TextBox 8"/>
          <p:cNvSpPr/>
          <p:nvPr/>
        </p:nvSpPr>
        <p:spPr>
          <a:xfrm>
            <a:off x="7162920" y="3192480"/>
            <a:ext cx="134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Constant</a:t>
            </a:r>
            <a:endParaRPr b="1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9680" y="3962520"/>
            <a:ext cx="7972200" cy="2133360"/>
          </a:xfrm>
          <a:prstGeom prst="rect">
            <a:avLst/>
          </a:prstGeom>
          <a:solidFill>
            <a:srgbClr val="d4dad6"/>
          </a:solidFill>
          <a:ln w="262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3" name="Rectangle 1"/>
          <p:cNvSpPr/>
          <p:nvPr/>
        </p:nvSpPr>
        <p:spPr>
          <a:xfrm>
            <a:off x="380880" y="1295280"/>
            <a:ext cx="8001000" cy="2210040"/>
          </a:xfrm>
          <a:prstGeom prst="rect">
            <a:avLst/>
          </a:prstGeom>
          <a:solidFill>
            <a:srgbClr val="d4dad6"/>
          </a:solidFill>
          <a:ln w="262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BrowalliaUPC"/>
                <a:ea typeface="BrowalliaUPC"/>
              </a:rPr>
              <a:t>HEAT CHANG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4960" y="1538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3926"/>
                </a:solidFill>
                <a:latin typeface="BrowalliaUPC"/>
                <a:ea typeface="BrowalliaUPC"/>
              </a:rPr>
              <a:t>Endothermic Process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BrowalliaUPC"/>
                <a:ea typeface="BrowalliaUPC"/>
              </a:rPr>
              <a:t>A process that absorbs heat from the surrounding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876920" y="160344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BrowalliaUPC"/>
                <a:ea typeface="BrowalliaUPC"/>
              </a:rPr>
              <a:t>Surroundings cool dow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BrowalliaUPC"/>
                <a:ea typeface="BrowalliaUPC"/>
              </a:rPr>
              <a:t>System heats up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BrowalliaUPC"/>
                <a:ea typeface="BrowalliaUPC"/>
              </a:rPr>
              <a:t>Heat change &gt; 0 (positive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533520" y="4191120"/>
            <a:ext cx="403848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3926"/>
                </a:solidFill>
                <a:latin typeface="BrowalliaUPC"/>
                <a:ea typeface="BrowalliaUPC"/>
              </a:rPr>
              <a:t>Endothermic Process</a:t>
            </a:r>
            <a:endParaRPr b="1" lang="en-US" sz="3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BrowalliaUPC"/>
                <a:ea typeface="BrowalliaUPC"/>
              </a:rPr>
              <a:t>A process that loses heat to the surroundings</a:t>
            </a:r>
            <a:endParaRPr b="1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4572000" y="4343400"/>
            <a:ext cx="4038480" cy="19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BrowalliaUPC"/>
                <a:ea typeface="BrowalliaUPC"/>
              </a:rPr>
              <a:t>Surroundings heat up</a:t>
            </a:r>
            <a:endParaRPr b="1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BrowalliaUPC"/>
                <a:ea typeface="BrowalliaUPC"/>
              </a:rPr>
              <a:t>System cools down</a:t>
            </a:r>
            <a:endParaRPr b="1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BrowalliaUPC"/>
                <a:ea typeface="BrowalliaUPC"/>
              </a:rPr>
              <a:t>Heat change &lt; 0 (negative)</a:t>
            </a:r>
            <a:endParaRPr b="1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BrowalliaUPC"/>
                <a:ea typeface="BrowalliaUPC"/>
              </a:rPr>
              <a:t>HEAT CAPACITY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62360" indent="-1623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The SI unit of heat (q) and energy (E) is the </a:t>
            </a:r>
            <a:r>
              <a:rPr b="1" lang="en-US" sz="2400" spc="-1" strike="noStrike" u="sng">
                <a:solidFill>
                  <a:srgbClr val="a53926"/>
                </a:solidFill>
                <a:uFillTx/>
                <a:latin typeface="BrowalliaUPC"/>
                <a:ea typeface="BrowalliaUPC"/>
              </a:rPr>
              <a:t>joule (J)</a:t>
            </a:r>
            <a:r>
              <a:rPr b="1" lang="en-US" sz="2400" spc="-1" strike="noStrike">
                <a:solidFill>
                  <a:srgbClr val="a53926"/>
                </a:solidFill>
                <a:latin typeface="BrowalliaUPC"/>
                <a:ea typeface="BrowalliaUPC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62360" indent="-16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62360" indent="-1623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The amount of heat it takes to change an object’s temperature by 1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ºC is the </a:t>
            </a:r>
            <a:r>
              <a:rPr b="1" lang="en-US" sz="2400" spc="-1" strike="noStrike" u="sng">
                <a:solidFill>
                  <a:srgbClr val="a53926"/>
                </a:solidFill>
                <a:uFillTx/>
                <a:latin typeface="BrowalliaUPC"/>
                <a:ea typeface="MS Mincho"/>
              </a:rPr>
              <a:t>heat capacity</a:t>
            </a:r>
            <a:r>
              <a:rPr b="0" lang="en-US" sz="2400" spc="-1" strike="noStrike">
                <a:solidFill>
                  <a:srgbClr val="a53926"/>
                </a:solidFill>
                <a:latin typeface="BrowalliaUPC"/>
                <a:ea typeface="MS Mincho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(J/ºC) of that object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62360" indent="-16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62360" indent="-1623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The amount of heat that it takes to change the temperature of 1g of a substance by 1ºC is the </a:t>
            </a:r>
            <a:r>
              <a:rPr b="1" lang="en-US" sz="2400" spc="-1" strike="noStrike" u="sng">
                <a:solidFill>
                  <a:srgbClr val="a53926"/>
                </a:solidFill>
                <a:uFillTx/>
                <a:latin typeface="BrowalliaUPC"/>
                <a:ea typeface="MS Mincho"/>
              </a:rPr>
              <a:t>specific heat 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of that object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62360" indent="-16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62360" indent="-1623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One calorie is the quantity of heat that raises the temperature of 1 gram of water 1ºC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62360" indent="-162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162360" indent="-162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34"/>
                </a:solidFill>
                <a:latin typeface="BrowalliaUPC"/>
                <a:ea typeface="MS Mincho"/>
              </a:rPr>
              <a:t>	</a:t>
            </a:r>
            <a:r>
              <a:rPr b="1" lang="en-US" sz="3000" spc="-1" strike="noStrike">
                <a:solidFill>
                  <a:srgbClr val="a53926"/>
                </a:solidFill>
                <a:latin typeface="BrowalliaUPC"/>
                <a:ea typeface="MS Mincho"/>
              </a:rPr>
              <a:t>1 Calorie = 1000 calories and 1 Joule = 0.239 cal</a:t>
            </a: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http://trinifieds.com/classifieds/wp-content/uploads/classipress/3-used-steel-beams-287692874.png"/>
          <p:cNvPicPr/>
          <p:nvPr/>
        </p:nvPicPr>
        <p:blipFill>
          <a:blip r:embed="rId1"/>
          <a:stretch/>
        </p:blipFill>
        <p:spPr>
          <a:xfrm>
            <a:off x="4164120" y="4332240"/>
            <a:ext cx="2606400" cy="20574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BrowalliaUPC"/>
                <a:ea typeface="BrowalliaUPC"/>
              </a:rPr>
              <a:t>HEAT CAPACITY VS. SPECIFIC HE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09120" y="1371240"/>
            <a:ext cx="3429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34"/>
                </a:solidFill>
                <a:latin typeface="BrowalliaUPC"/>
                <a:ea typeface="BrowalliaUPC"/>
              </a:rPr>
              <a:t>Heat Capacity </a:t>
            </a:r>
            <a:r>
              <a:rPr b="1" lang="en-US" sz="3200" spc="-1" strike="noStrike">
                <a:solidFill>
                  <a:srgbClr val="292934"/>
                </a:solidFill>
                <a:latin typeface="BrowalliaUPC"/>
                <a:ea typeface="MS Mincho"/>
              </a:rPr>
              <a:t>(J/ºC) 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The amount of heat it would take to raise the temperature of a sample of a substance by 1</a:t>
            </a:r>
            <a:r>
              <a:rPr b="0" lang="en-US" sz="2400" spc="-1" strike="noStrike" baseline="30000">
                <a:solidFill>
                  <a:srgbClr val="292934"/>
                </a:solidFill>
                <a:latin typeface="BrowalliaUPC"/>
                <a:ea typeface="BrowalliaUPC"/>
              </a:rPr>
              <a:t>o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C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92934"/>
                </a:solidFill>
                <a:uFillTx/>
                <a:latin typeface="BrowalliaUPC"/>
                <a:ea typeface="BrowalliaUPC"/>
              </a:rPr>
              <a:t>Dependent 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on Mas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It would take much more heat to raise the temperature of a steel girder by 1</a:t>
            </a:r>
            <a:r>
              <a:rPr b="0" lang="en-US" sz="2400" spc="-1" strike="noStrike" baseline="30000">
                <a:solidFill>
                  <a:srgbClr val="292934"/>
                </a:solidFill>
                <a:latin typeface="BrowalliaUPC"/>
                <a:ea typeface="BrowalliaUPC"/>
              </a:rPr>
              <a:t>o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C than it would to raise the temperature of a steel nail by the same amoun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4303800" y="6049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Arial"/>
              </a:rPr>
              <a:t>200 kg = 1 x 10</a:t>
            </a:r>
            <a:r>
              <a:rPr b="1" lang="en-US" sz="1800" spc="-1" strike="noStrike" baseline="30000">
                <a:solidFill>
                  <a:srgbClr val="292934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292934"/>
                </a:solidFill>
                <a:latin typeface="Arial"/>
              </a:rPr>
              <a:t>J </a:t>
            </a: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5" name="Content Placeholder 2"/>
          <p:cNvSpPr/>
          <p:nvPr/>
        </p:nvSpPr>
        <p:spPr>
          <a:xfrm>
            <a:off x="4343400" y="1143000"/>
            <a:ext cx="46483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34"/>
                </a:solidFill>
                <a:latin typeface="BrowalliaUPC"/>
                <a:ea typeface="BrowalliaUPC"/>
              </a:rPr>
              <a:t>Specific Heat (J/g</a:t>
            </a:r>
            <a:r>
              <a:rPr b="1" lang="en-US" sz="8800" spc="-1" strike="noStrike" baseline="8000">
                <a:solidFill>
                  <a:srgbClr val="292934"/>
                </a:solidFill>
                <a:latin typeface="BrowalliaUPC"/>
                <a:ea typeface="BrowalliaUPC"/>
              </a:rPr>
              <a:t>.</a:t>
            </a:r>
            <a:r>
              <a:rPr b="1" lang="en-US" sz="3200" spc="-1" strike="noStrike" baseline="30000">
                <a:solidFill>
                  <a:srgbClr val="292934"/>
                </a:solidFill>
                <a:latin typeface="BrowalliaUPC"/>
                <a:ea typeface="BrowalliaUPC"/>
              </a:rPr>
              <a:t>o</a:t>
            </a:r>
            <a:r>
              <a:rPr b="1" lang="en-US" sz="3200" spc="-1" strike="noStrike">
                <a:solidFill>
                  <a:srgbClr val="292934"/>
                </a:solidFill>
                <a:latin typeface="BrowalliaUPC"/>
                <a:ea typeface="BrowalliaUPC"/>
              </a:rPr>
              <a:t>C)</a:t>
            </a:r>
            <a:endParaRPr b="1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The amount of heat it would take to raise the temperature of a 1g of a substance by 1</a:t>
            </a:r>
            <a:r>
              <a:rPr b="0" lang="en-US" sz="2400" spc="-1" strike="noStrike" baseline="30000">
                <a:solidFill>
                  <a:srgbClr val="292934"/>
                </a:solidFill>
                <a:latin typeface="BrowalliaUPC"/>
                <a:ea typeface="BrowalliaUPC"/>
              </a:rPr>
              <a:t>o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C</a:t>
            </a:r>
            <a:endParaRPr b="1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92934"/>
                </a:solidFill>
                <a:uFillTx/>
                <a:latin typeface="BrowalliaUPC"/>
                <a:ea typeface="BrowalliaUPC"/>
              </a:rPr>
              <a:t>Independent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 of mass</a:t>
            </a:r>
            <a:endParaRPr b="1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The specific heat of steel is about 0.5 J/g</a:t>
            </a:r>
            <a:r>
              <a:rPr b="0" lang="en-US" sz="6000" spc="-1" strike="noStrike" baseline="8000">
                <a:solidFill>
                  <a:srgbClr val="292934"/>
                </a:solidFill>
                <a:latin typeface="BrowalliaUPC"/>
                <a:ea typeface="BrowalliaUPC"/>
              </a:rPr>
              <a:t>.</a:t>
            </a:r>
            <a:r>
              <a:rPr b="0" lang="en-US" sz="2400" spc="-1" strike="noStrike" baseline="30000">
                <a:solidFill>
                  <a:srgbClr val="292934"/>
                </a:solidFill>
                <a:latin typeface="BrowalliaUPC"/>
                <a:ea typeface="BrowalliaUPC"/>
              </a:rPr>
              <a:t>o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C</a:t>
            </a:r>
            <a:endParaRPr b="1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6" name="Picture 4" descr="http://www.woodiesdiy.com/images/productImages/Zoom/2.5mm_Blue_Hardened_Oval_Head_Steel_Nails.jpg"/>
          <p:cNvPicPr/>
          <p:nvPr/>
        </p:nvPicPr>
        <p:blipFill>
          <a:blip r:embed="rId2"/>
          <a:stretch/>
        </p:blipFill>
        <p:spPr>
          <a:xfrm>
            <a:off x="6053040" y="5321160"/>
            <a:ext cx="592200" cy="592200"/>
          </a:xfrm>
          <a:prstGeom prst="rect">
            <a:avLst/>
          </a:prstGeom>
          <a:ln w="0">
            <a:noFill/>
          </a:ln>
        </p:spPr>
      </p:pic>
      <p:sp>
        <p:nvSpPr>
          <p:cNvPr id="247" name="TextBox 7"/>
          <p:cNvSpPr/>
          <p:nvPr/>
        </p:nvSpPr>
        <p:spPr>
          <a:xfrm>
            <a:off x="6350040" y="5587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Arial"/>
              </a:rPr>
              <a:t>.002 kg = 1J  </a:t>
            </a: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"/>
          <p:cNvSpPr/>
          <p:nvPr/>
        </p:nvSpPr>
        <p:spPr>
          <a:xfrm>
            <a:off x="533520" y="2209680"/>
            <a:ext cx="3581280" cy="3886200"/>
          </a:xfrm>
          <a:prstGeom prst="rect">
            <a:avLst/>
          </a:prstGeom>
          <a:solidFill>
            <a:srgbClr val="d4dad6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BrowalliaUPC"/>
                <a:ea typeface="BrowalliaUPC"/>
              </a:rPr>
              <a:t>HEAT CAPACITY VS. SPECIFIC HEAT PROBLEM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160" y="1604520"/>
            <a:ext cx="373356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34"/>
                </a:solidFill>
                <a:latin typeface="BrowalliaUPC"/>
                <a:ea typeface="BrowalliaUPC"/>
              </a:rPr>
              <a:t>Heat Capacity (J/</a:t>
            </a:r>
            <a:r>
              <a:rPr b="1" lang="en-US" sz="3200" spc="-1" strike="noStrike" baseline="30000">
                <a:solidFill>
                  <a:srgbClr val="292934"/>
                </a:solidFill>
                <a:latin typeface="BrowalliaUPC"/>
                <a:ea typeface="BrowalliaUPC"/>
              </a:rPr>
              <a:t>o</a:t>
            </a:r>
            <a:r>
              <a:rPr b="1" lang="en-US" sz="3200" spc="-1" strike="noStrike">
                <a:solidFill>
                  <a:srgbClr val="292934"/>
                </a:solidFill>
                <a:latin typeface="BrowalliaUPC"/>
                <a:ea typeface="BrowalliaUPC"/>
              </a:rPr>
              <a:t>C)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How much heat is required to raise 150g of silver by 1</a:t>
            </a:r>
            <a:r>
              <a:rPr b="0" lang="en-US" sz="2400" spc="-1" strike="noStrike" baseline="30000">
                <a:solidFill>
                  <a:srgbClr val="292934"/>
                </a:solidFill>
                <a:latin typeface="BrowalliaUPC"/>
                <a:ea typeface="BrowalliaUPC"/>
              </a:rPr>
              <a:t>o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C?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(Specific Heat of Ag is 0.24J/g</a:t>
            </a:r>
            <a:r>
              <a:rPr b="0" lang="en-US" sz="7200" spc="-1" strike="noStrike" baseline="8000">
                <a:solidFill>
                  <a:srgbClr val="292934"/>
                </a:solidFill>
                <a:latin typeface="BrowalliaUPC"/>
                <a:ea typeface="BrowalliaUPC"/>
              </a:rPr>
              <a:t>.</a:t>
            </a:r>
            <a:r>
              <a:rPr b="0" lang="en-US" sz="2400" spc="-1" strike="noStrike" baseline="30000">
                <a:solidFill>
                  <a:srgbClr val="292934"/>
                </a:solidFill>
                <a:latin typeface="BrowalliaUPC"/>
                <a:ea typeface="BrowalliaUPC"/>
              </a:rPr>
              <a:t>o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C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1" name="TextBox 3" descr=""/>
          <p:cNvPicPr/>
          <p:nvPr/>
        </p:nvPicPr>
        <p:blipFill>
          <a:blip r:embed="rId1"/>
          <a:stretch/>
        </p:blipFill>
        <p:spPr>
          <a:xfrm>
            <a:off x="974880" y="4834080"/>
            <a:ext cx="2579400" cy="749160"/>
          </a:xfrm>
          <a:prstGeom prst="rect">
            <a:avLst/>
          </a:prstGeom>
          <a:ln w="0">
            <a:noFill/>
          </a:ln>
        </p:spPr>
      </p:pic>
      <p:pic>
        <p:nvPicPr>
          <p:cNvPr id="252" name="Content Placeholder 2" descr=""/>
          <p:cNvPicPr/>
          <p:nvPr/>
        </p:nvPicPr>
        <p:blipFill>
          <a:blip r:embed="rId2"/>
          <a:stretch/>
        </p:blipFill>
        <p:spPr>
          <a:xfrm>
            <a:off x="4340160" y="1530360"/>
            <a:ext cx="4273560" cy="98748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6"/>
          <p:cNvSpPr/>
          <p:nvPr/>
        </p:nvSpPr>
        <p:spPr>
          <a:xfrm>
            <a:off x="4648320" y="2209680"/>
            <a:ext cx="3581280" cy="3837240"/>
          </a:xfrm>
          <a:prstGeom prst="rect">
            <a:avLst/>
          </a:prstGeom>
          <a:solidFill>
            <a:srgbClr val="d4dad6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4" name="TextBox 7"/>
          <p:cNvSpPr/>
          <p:nvPr/>
        </p:nvSpPr>
        <p:spPr>
          <a:xfrm>
            <a:off x="4800600" y="2217600"/>
            <a:ext cx="342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What is the specific heat of silver if takes 36J to increase a 150g sample of silver from 25</a:t>
            </a:r>
            <a:r>
              <a:rPr b="0" lang="en-US" sz="2400" spc="-1" strike="noStrike" baseline="30000">
                <a:solidFill>
                  <a:srgbClr val="292934"/>
                </a:solidFill>
                <a:latin typeface="BrowalliaUPC"/>
                <a:ea typeface="BrowalliaUPC"/>
              </a:rPr>
              <a:t>o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C to 26</a:t>
            </a:r>
            <a:r>
              <a:rPr b="0" lang="en-US" sz="2400" spc="-1" strike="noStrike" baseline="30000">
                <a:solidFill>
                  <a:srgbClr val="292934"/>
                </a:solidFill>
                <a:latin typeface="BrowalliaUPC"/>
                <a:ea typeface="BrowalliaUPC"/>
              </a:rPr>
              <a:t>o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C?</a:t>
            </a:r>
            <a:endParaRPr b="1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5" name="TextBox 9" descr=""/>
          <p:cNvPicPr/>
          <p:nvPr/>
        </p:nvPicPr>
        <p:blipFill>
          <a:blip r:embed="rId3"/>
          <a:stretch/>
        </p:blipFill>
        <p:spPr>
          <a:xfrm>
            <a:off x="5924520" y="3736800"/>
            <a:ext cx="1177920" cy="560520"/>
          </a:xfrm>
          <a:prstGeom prst="rect">
            <a:avLst/>
          </a:prstGeom>
          <a:ln w="0">
            <a:noFill/>
          </a:ln>
        </p:spPr>
      </p:pic>
      <p:pic>
        <p:nvPicPr>
          <p:cNvPr id="256" name="Rectangle 10" descr=""/>
          <p:cNvPicPr/>
          <p:nvPr/>
        </p:nvPicPr>
        <p:blipFill>
          <a:blip r:embed="rId4"/>
          <a:stretch/>
        </p:blipFill>
        <p:spPr>
          <a:xfrm>
            <a:off x="5035680" y="4857840"/>
            <a:ext cx="3181320" cy="66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BrowalliaUPC"/>
                <a:ea typeface="BrowalliaUPC"/>
              </a:rPr>
              <a:t>CALORIMETRY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59984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53926"/>
                </a:solidFill>
                <a:uFillTx/>
                <a:latin typeface="BrowalliaUPC"/>
                <a:ea typeface="BrowalliaUPC"/>
              </a:rPr>
              <a:t>Calorimetry</a:t>
            </a:r>
            <a:r>
              <a:rPr b="1" lang="en-US" sz="2400" spc="-1" strike="noStrike">
                <a:solidFill>
                  <a:srgbClr val="a53926"/>
                </a:solidFill>
                <a:latin typeface="BrowalliaUPC"/>
                <a:ea typeface="BrowalliaUPC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is the accurate and precise measurement of the heat change for chemical and physical processe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The </a:t>
            </a:r>
            <a:r>
              <a:rPr b="1" lang="en-US" sz="2400" spc="-1" strike="noStrike" u="sng">
                <a:solidFill>
                  <a:srgbClr val="a53926"/>
                </a:solidFill>
                <a:uFillTx/>
                <a:latin typeface="BrowalliaUPC"/>
                <a:ea typeface="BrowalliaUPC"/>
              </a:rPr>
              <a:t>enthalpy</a:t>
            </a:r>
            <a:r>
              <a:rPr b="0" lang="en-US" sz="2400" spc="-1" strike="noStrike">
                <a:solidFill>
                  <a:srgbClr val="a53926"/>
                </a:solidFill>
                <a:latin typeface="BrowalliaUPC"/>
                <a:ea typeface="BrowalliaUPC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change (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△H), is the heat change(q) for a process at constant pressur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q = △H = mC△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9" name="Picture 8" descr="p0013037-calorimeter"/>
          <p:cNvPicPr/>
          <p:nvPr/>
        </p:nvPicPr>
        <p:blipFill>
          <a:blip r:embed="rId1"/>
          <a:stretch/>
        </p:blipFill>
        <p:spPr>
          <a:xfrm>
            <a:off x="5334120" y="2133720"/>
            <a:ext cx="3601800" cy="3601800"/>
          </a:xfrm>
          <a:prstGeom prst="rect">
            <a:avLst/>
          </a:prstGeom>
          <a:ln w="0">
            <a:noFill/>
          </a:ln>
        </p:spPr>
      </p:pic>
      <p:sp>
        <p:nvSpPr>
          <p:cNvPr id="260" name="TextBox 1"/>
          <p:cNvSpPr/>
          <p:nvPr/>
        </p:nvSpPr>
        <p:spPr>
          <a:xfrm>
            <a:off x="5562720" y="1633680"/>
            <a:ext cx="348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BrowalliaUPC"/>
                <a:ea typeface="BrowalliaUPC"/>
              </a:rPr>
              <a:t>            </a:t>
            </a:r>
            <a:r>
              <a:rPr b="1" lang="en-US" sz="1800" spc="-1" strike="noStrike">
                <a:solidFill>
                  <a:srgbClr val="292934"/>
                </a:solidFill>
                <a:latin typeface="BrowalliaUPC"/>
                <a:ea typeface="BrowalliaUPC"/>
              </a:rPr>
              <a:t>Constant Volume Calorimetry</a:t>
            </a:r>
            <a:endParaRPr b="1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61" name="Picture 5" descr="http://t2.gstatic.com/images?q=tbn:ANd9GcSSoaN4-PLuglik8kQT18yIqz0C9Jc5sM_qHizSYzWgtkNNSEcP5A"/>
          <p:cNvPicPr/>
          <p:nvPr/>
        </p:nvPicPr>
        <p:blipFill>
          <a:blip r:embed="rId2"/>
          <a:stretch/>
        </p:blipFill>
        <p:spPr>
          <a:xfrm>
            <a:off x="2819520" y="3930480"/>
            <a:ext cx="1784160" cy="280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BrowalliaUPC"/>
                <a:ea typeface="BrowalliaUPC"/>
              </a:rPr>
              <a:t>CALORIMETRY CALCULATION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To measure heat changes using calorimetry..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1.  Measure initial temperature of water (SURROUNDINGS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2.  Perform reaction inside insulated container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3.  Record final water temperatur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BrowalliaUPC"/>
              </a:rPr>
              <a:t>4.  Use specific heat of water to measure enthalpy change with the formula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q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MS Mincho"/>
              </a:rPr>
              <a:t>sys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=△H= </a:t>
            </a:r>
            <a:r>
              <a:rPr b="0" lang="en-US" sz="3200" spc="-1" strike="noStrike">
                <a:solidFill>
                  <a:srgbClr val="292934"/>
                </a:solidFill>
                <a:latin typeface="BrowalliaUPC"/>
                <a:ea typeface="MS Mincho"/>
              </a:rPr>
              <a:t>-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 q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MS Mincho"/>
              </a:rPr>
              <a:t>surr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 = </a:t>
            </a:r>
            <a:r>
              <a:rPr b="0" lang="en-US" sz="3200" spc="-1" strike="noStrike">
                <a:solidFill>
                  <a:srgbClr val="292934"/>
                </a:solidFill>
                <a:latin typeface="BrowalliaUPC"/>
                <a:ea typeface="MS Mincho"/>
              </a:rPr>
              <a:t>-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 mC△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For endothermic reactions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 q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MS Mincho"/>
              </a:rPr>
              <a:t>sys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 is positive 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q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MS Mincho"/>
              </a:rPr>
              <a:t>surr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 is negative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For exothermic reactions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 q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MS Mincho"/>
              </a:rPr>
              <a:t>sys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 is negative 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q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BrowalliaUPC"/>
                <a:ea typeface="MS Mincho"/>
              </a:rPr>
              <a:t>surr</a:t>
            </a:r>
            <a:r>
              <a:rPr b="0" lang="en-US" sz="2400" spc="-1" strike="noStrike">
                <a:solidFill>
                  <a:srgbClr val="292934"/>
                </a:solidFill>
                <a:latin typeface="BrowalliaUPC"/>
                <a:ea typeface="MS Mincho"/>
              </a:rPr>
              <a:t> is positive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6:05:45Z</dcterms:created>
  <dc:creator>udsd</dc:creator>
  <dc:description/>
  <dc:language>en-US</dc:language>
  <cp:lastModifiedBy>Dawn</cp:lastModifiedBy>
  <dcterms:modified xsi:type="dcterms:W3CDTF">2013-06-02T23:14:39Z</dcterms:modified>
  <cp:revision>98</cp:revision>
  <dc:subject/>
  <dc:title>Slide 1</dc:title>
</cp:coreProperties>
</file>